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DBA8-41C8-4D70-A98E-0E290A1322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A74-B268-478F-884D-7CAFBEB29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79D-F27D-41D5-8C5F-2CF16CB3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6DB-BDF3-4AAB-BB34-A2742E9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B70-DB41-41E9-9B0E-DE896F85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FE5-5415-45B5-9430-67DB96D9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040-A067-4124-9E8A-05A6FBDD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046-6032-4D10-BFB3-B28FA08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A8AC-BAF1-41C9-B114-E15D4F1F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D31-4FE8-48C4-883E-A2A4153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353E-9507-4FAD-9774-531EF39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8720-0FE4-4471-84A2-F169EDA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846-42F5-441B-AF41-441799F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7FE-3784-4D8E-992D-C659C667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0C5-734B-4AE2-BD7D-43739EF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4D8-E4E2-4812-B4AC-71968ED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C8AF-7201-4E1A-855D-2B5356A1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BF0-1A6A-41B1-AFFF-9C316555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6A1-B0FD-43D3-9191-099AEAAD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9C18-B884-4FBE-A81D-006732C5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96F6-B4A7-4741-A43D-28A136F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E92A-C332-43AC-8B57-2AF7322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F98B-EC50-4E8D-876C-6E90B228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D385-28C4-4197-A6CF-A8B8459E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2D9-8E3B-44B3-8B75-74B7E844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100B-06DE-478E-AFE6-47D51B3A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01B6-1153-4CA8-B392-7BB26DC3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45FD-8B04-496C-88C8-000EE89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82B5-E2A0-4D8C-8D72-3767BA5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928E-D306-4194-B999-17A6FFFD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DB6E-438C-460B-BAC9-A786481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DD15-D52E-4893-80AF-A449F34C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31BA-E007-42DF-B7B8-16D8D7FF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B49A-4285-45C3-8E0E-B69F6BD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B81B-3B22-4362-B1DB-0DC75DD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3C0-317F-43F0-8157-E7F5FF1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17DE-6191-4273-8153-18982A1C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651C-C866-4C81-A5D0-C9F6060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DFD8-9EAE-4E8A-8C12-3DFFAB53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F7B8-A51D-4BB7-BA3B-3AD30C4E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5574-F553-4A19-9890-3341372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BB89-B504-4F2A-9F16-2E67FE0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6183-B888-4506-B90C-CCBFFC6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8B87-868B-435C-887B-9B5A991E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5B17-8F71-4ABE-A509-B423BBEC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5B277-EF9D-4953-AB4A-94FDEE72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0D3-CF21-49FC-B770-522D7349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F68A-43FA-4D48-AB90-4AA0E80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3A1E-29FC-4993-A6DE-A3DF392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5745F-3145-4B5E-8BC5-BFDC995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53BA-E7AB-4DAE-9F20-10D35D8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AAED-FBB0-4909-B37F-982F50EF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5425-15C8-474D-8548-E34A6F7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D665-A845-40E6-B505-DB88045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3336-886B-4EE2-9339-3AF56D2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1AB7C-DFAF-4ADD-965D-03D097ED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2B77-987B-4D19-9D81-10B12279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6FC-3DE1-4C58-8D94-35F22DC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B6B8-64C1-4573-8739-DE46D5F8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FA4-93B8-4B00-B463-E8EEFBE8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E47-3051-40B4-B791-209B553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1BA-0F7B-4138-9855-5ABF0FBD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DE5A-99B0-4416-9EA7-A7F2AEC5A6B4}" type="slidenum">
              <a:rPr b="0" lang="ru-RU" sz="1000" spc="-1" strike="noStrike">
                <a:solidFill>
                  <a:srgbClr val="a2abad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C2DC-21B7-4951-AF0B-6E922C94F14C}" type="slidenum">
              <a:rPr b="0" lang="ru-RU" sz="1000" spc="-1" strike="noStrike">
                <a:solidFill>
                  <a:srgbClr val="a2abad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19B-121B-4979-8281-077F716C653C}" type="slidenum">
              <a:rPr b="0" lang="ru-RU" sz="1000" spc="-1" strike="noStrike">
                <a:solidFill>
                  <a:srgbClr val="a2abad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CF53-0F73-4C23-8D4D-7425796930FE}" type="slidenum">
              <a:rPr b="0" lang="ru-RU" sz="1000" spc="-1" strike="noStrike">
                <a:solidFill>
                  <a:srgbClr val="a2abad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54C-FD08-4A20-996C-508683C5D1EF}" type="slidenum">
              <a:rPr b="0" lang="ru-RU" sz="1000" spc="-1" strike="noStrike">
                <a:solidFill>
                  <a:srgbClr val="a2abad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48fba"/>
                </a:solidFill>
                <a:latin typeface="Trebuchet MS"/>
              </a:rPr>
              <a:t>Дизайнер-архитектор.</a:t>
            </a:r>
            <a:endParaRPr b="1" lang="en-US" sz="45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7d7e"/>
                </a:solidFill>
                <a:latin typeface="Georgia"/>
              </a:rPr>
              <a:t>Мои первые успехи</a:t>
            </a:r>
            <a:r>
              <a:rPr b="0" lang="ru-RU" sz="2000" spc="-1" strike="noStrike">
                <a:solidFill>
                  <a:srgbClr val="767d7e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80320" cy="59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48fba"/>
                </a:solidFill>
                <a:latin typeface="Trebuchet MS"/>
              </a:rPr>
              <a:t>Достичь желаемого способен каждый! Упорный труд, устойчивый интерес, желание совершенствовать свой талант – важные составляющие успеха. Мечтайте, творите и ищите себя!</a:t>
            </a:r>
            <a:endParaRPr b="1" lang="en-US" sz="41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57160" y="6400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67d7e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7d7e"/>
                </a:solidFill>
                <a:latin typeface="Trebuchet MS"/>
              </a:rPr>
              <a:t>Мастер-это человек делающий то, что не получается у других. В какой квартире я хотел бы жить? Каким должно быть то место, куда я спешу после работы, зову друзей и где спасаюсь от стрессов? Такие вопросы задавал себе в жизни хоть раз человек. На помощь ему приходит дизайнер, именно он помогает создать свой неповторимый стиль. </a:t>
            </a:r>
            <a:endParaRPr b="1" lang="en-US" sz="3200" spc="-1" strike="noStrike">
              <a:solidFill>
                <a:srgbClr val="848fba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505878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Вот и я решила попробавать себя в  этой роли-роли дизайнера-архитектора</a:t>
            </a:r>
            <a:endParaRPr b="1" lang="en-US" sz="3200" spc="-1" strike="noStrike">
              <a:solidFill>
                <a:srgbClr val="848fba"/>
              </a:solidFill>
              <a:latin typeface="Trebuchet MS"/>
            </a:endParaRPr>
          </a:p>
        </p:txBody>
      </p:sp>
      <p:pic>
        <p:nvPicPr>
          <p:cNvPr id="232" name="Содержимое 3" descr="P3200153.JPG"/>
          <p:cNvPicPr/>
          <p:nvPr/>
        </p:nvPicPr>
        <p:blipFill>
          <a:blip r:embed="rId1"/>
          <a:stretch/>
        </p:blipFill>
        <p:spPr>
          <a:xfrm>
            <a:off x="1803240" y="530280"/>
            <a:ext cx="562644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В первую очередь необходимо было определить, что я сама хочу, а затем я  сделала эскиз.</a:t>
            </a:r>
            <a:br>
              <a:rPr sz="3200"/>
            </a:b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Потом я выбрала из какого материала буду выполнять, и определила размер макета.</a:t>
            </a:r>
            <a:br>
              <a:rPr sz="3200"/>
            </a:b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И, таким образом, все было готово для начала работы над самим макетом.</a:t>
            </a:r>
            <a:br>
              <a:rPr sz="3200"/>
            </a:b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Расчетав размеры, я начала работу.</a:t>
            </a:r>
            <a:endParaRPr b="1" lang="en-US" sz="3200" spc="-1" strike="noStrike">
              <a:solidFill>
                <a:srgbClr val="848fba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По-маленьку в моей будущей комнате стала появляться мебель. </a:t>
            </a:r>
            <a:endParaRPr b="1" lang="en-US" sz="3200" spc="-1" strike="noStrike">
              <a:solidFill>
                <a:srgbClr val="848fba"/>
              </a:solidFill>
              <a:latin typeface="Trebuchet MS"/>
            </a:endParaRPr>
          </a:p>
        </p:txBody>
      </p:sp>
      <p:pic>
        <p:nvPicPr>
          <p:cNvPr id="235" name="Содержимое 3" descr="P3200154.JPG"/>
          <p:cNvPicPr/>
          <p:nvPr/>
        </p:nvPicPr>
        <p:blipFill>
          <a:blip r:embed="rId1"/>
          <a:stretch/>
        </p:blipFill>
        <p:spPr>
          <a:xfrm>
            <a:off x="1457280" y="176040"/>
            <a:ext cx="6291360" cy="490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С большмими усилиями я сделала диван.</a:t>
            </a:r>
            <a:endParaRPr b="1" lang="en-US" sz="3200" spc="-1" strike="noStrike">
              <a:solidFill>
                <a:srgbClr val="848fba"/>
              </a:solidFill>
              <a:latin typeface="Trebuchet MS"/>
            </a:endParaRPr>
          </a:p>
        </p:txBody>
      </p:sp>
      <p:pic>
        <p:nvPicPr>
          <p:cNvPr id="237" name="Содержимое 3" descr="DSC03218.JPG"/>
          <p:cNvPicPr/>
          <p:nvPr/>
        </p:nvPicPr>
        <p:blipFill>
          <a:blip r:embed="rId1"/>
          <a:stretch/>
        </p:blipFill>
        <p:spPr>
          <a:xfrm>
            <a:off x="1454040" y="530280"/>
            <a:ext cx="628200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Trebuchet MS"/>
              </a:rPr>
              <a:t>Сделала картины, а затем утеплила комнату, сделав окно.</a:t>
            </a:r>
            <a:endParaRPr b="1" lang="en-US" sz="3200" spc="-1" strike="noStrike">
              <a:solidFill>
                <a:srgbClr val="848fba"/>
              </a:solidFill>
              <a:latin typeface="Trebuchet MS"/>
            </a:endParaRPr>
          </a:p>
        </p:txBody>
      </p:sp>
      <p:pic>
        <p:nvPicPr>
          <p:cNvPr id="239" name="Содержимое 6" descr="DSC03213.JPG"/>
          <p:cNvPicPr/>
          <p:nvPr/>
        </p:nvPicPr>
        <p:blipFill>
          <a:blip r:embed="rId1"/>
          <a:stretch/>
        </p:blipFill>
        <p:spPr>
          <a:xfrm>
            <a:off x="514440" y="1414440"/>
            <a:ext cx="3932280" cy="262116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9" descr="DSC03216.JPG"/>
          <p:cNvPicPr/>
          <p:nvPr/>
        </p:nvPicPr>
        <p:blipFill>
          <a:blip r:embed="rId2"/>
          <a:stretch/>
        </p:blipFill>
        <p:spPr>
          <a:xfrm>
            <a:off x="4756320" y="1414440"/>
            <a:ext cx="3930480" cy="26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Trebuchet MS"/>
              </a:rPr>
              <a:t>Внутри она выглядит так!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pic>
        <p:nvPicPr>
          <p:cNvPr id="242" name="Содержимое 4" descr="P3200156.JPG"/>
          <p:cNvPicPr/>
          <p:nvPr/>
        </p:nvPicPr>
        <p:blipFill>
          <a:blip r:embed="rId1"/>
          <a:stretch/>
        </p:blipFill>
        <p:spPr>
          <a:xfrm>
            <a:off x="514440" y="1251000"/>
            <a:ext cx="3932280" cy="294804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DSC03217.JPG"/>
          <p:cNvPicPr/>
          <p:nvPr/>
        </p:nvPicPr>
        <p:blipFill>
          <a:blip r:embed="rId2"/>
          <a:stretch/>
        </p:blipFill>
        <p:spPr>
          <a:xfrm>
            <a:off x="5411880" y="760320"/>
            <a:ext cx="2619360" cy="393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Trebuchet MS"/>
              </a:rPr>
              <a:t>Вид из угла. Вид сверху.</a:t>
            </a:r>
            <a:endParaRPr b="1" lang="en-US" sz="3600" spc="-1" strike="noStrike">
              <a:solidFill>
                <a:srgbClr val="848fba"/>
              </a:solidFill>
              <a:latin typeface="Trebuchet MS"/>
            </a:endParaRPr>
          </a:p>
        </p:txBody>
      </p:sp>
      <p:pic>
        <p:nvPicPr>
          <p:cNvPr id="245" name="Содержимое 4" descr="DSC03212.JPG"/>
          <p:cNvPicPr/>
          <p:nvPr/>
        </p:nvPicPr>
        <p:blipFill>
          <a:blip r:embed="rId1"/>
          <a:stretch/>
        </p:blipFill>
        <p:spPr>
          <a:xfrm>
            <a:off x="514440" y="1285920"/>
            <a:ext cx="4128840" cy="292896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DSC03220.JPG"/>
          <p:cNvPicPr/>
          <p:nvPr/>
        </p:nvPicPr>
        <p:blipFill>
          <a:blip r:embed="rId2"/>
          <a:stretch/>
        </p:blipFill>
        <p:spPr>
          <a:xfrm>
            <a:off x="4756320" y="1414440"/>
            <a:ext cx="3930480" cy="262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2:14:35Z</dcterms:created>
  <dc:creator>1</dc:creator>
  <dc:description/>
  <dc:language>en-US</dc:language>
  <cp:lastModifiedBy>Наташа</cp:lastModifiedBy>
  <dcterms:modified xsi:type="dcterms:W3CDTF">2009-09-27T11:26:25Z</dcterms:modified>
  <cp:revision>60</cp:revision>
  <dc:subject/>
  <dc:title>Слайд 1</dc:title>
</cp:coreProperties>
</file>